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85A-116F-4EEB-ACD3-AFAD2A31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26A-E494-44C9-A7A2-4936CD98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AB1-788C-45E0-A8D0-4C2B1B2E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AC8-ED11-4D5C-B38B-18DDDFDA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5DCA-DFF3-4628-92B8-4ADA0B29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D86F-F119-4F61-BB4B-51EBE7FB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6677-D01E-4258-8DCD-5C3E6B62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6801-0818-4162-BC88-9FDEB8A4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91EA-0FBB-467E-8198-7F358E2B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C508-7E06-44E8-BC93-F3E4B4A3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BE01-B93E-4375-A688-499FA30F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3A3-BF16-4226-82EC-467D851F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8654-61EC-4EB2-97CE-1C79871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5F42-FFF8-448A-87C9-D930C85C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2242-728A-463E-A18E-DAA4C449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3BA0-90FA-4994-A703-DFF9633D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C6E5-6B0D-4AA4-9FCF-160C56D9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0A9C-682F-4DE4-8C9C-442672AF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1CB7-7771-4A38-9889-59A49931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5D2D-5B51-4906-B594-9365A98D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D075-3DB7-4B6B-A059-16B0EEC8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DEA7-AFF0-4311-B830-EA43E39D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815-B9FD-44D0-B23B-7F6F469F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75B3-AF0B-4584-AAC7-51D213C9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7851-B4E0-4820-B46C-F9D59632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A6C6-E5F4-4D49-A3B7-1FC75BF3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1E07-0EF1-491B-8084-ECB27E93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99FE-EBB6-421B-ACB4-E5BDB2D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3176-B528-4ACF-A475-DEF89F9A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7622-E458-4E1D-8D5A-32EA187E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F272D-B49F-48E1-9E32-375FF73F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914DD-870C-4017-9A20-B605BFB7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0590-1798-4931-9E57-083A60DA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95F-BD83-419A-9072-7D61405C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A3098-11F7-440C-9797-795678EF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F9C1B-FEA6-4444-8259-CBA1DD56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0CF1F-882A-40B1-9F12-4C10423E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E4B24-5131-4069-BFC6-AC9BF9E7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4E3C4-B161-4A39-817A-27BA36CF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84CC-35D5-4CFE-89FC-E916BF40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62ED-618B-4D2C-91B2-8B08FA93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2CF3-4039-4CF7-B709-B4D045C7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E1C86-C0AD-4D94-B4D3-5D8225B3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3F41-5159-43E4-9E2A-70B3A735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734-5D9B-4B32-8A1A-51668A1D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C32A3-776F-404F-A7F5-C8372C80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D21CB-F39F-4F35-9E44-29F682C3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C466A-7C40-40F0-A3AA-7CAAB304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4061-EA67-43F7-9713-6C2F52EF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90C1D-674F-4FFA-B38E-4B050A05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1758D-5B0D-497B-8222-20004270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F97D-47BD-4521-BEC8-E6517261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FF7C5-CA49-44F7-9D7D-7D26D3CB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DBDA3-DB66-4B11-80DA-4F2E2CD1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8DB64-CE93-4067-B4B2-D7E474FC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8B4-0BBE-4363-83AA-060038B5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BFC29-8D7E-4393-BDB4-F11431BE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BCDC2-F221-4331-818F-522A6869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EE36-D633-4AFF-8466-8BFE2CAA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A990E-590A-4542-8721-DB2D8F78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F53E-039D-4924-BE3E-0D9122B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0DDF4-0DE0-4E85-A8E5-BEA1E833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37B34-9087-43FF-89F4-EBDAC0BA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D49F-279A-4D24-AC58-8B489A9C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3B0C4-08D4-4703-9E85-D9D3CFAA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85992-5C6F-492F-AFC5-A874C378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C2A-0D82-462A-84BE-64145851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A63E-57F6-4189-B268-3BD77FB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720B6-1F55-4A38-A03F-470F7C68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FC5AD-2623-4F5F-92E6-116EF392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85DF4-C2F9-474E-92CE-7F5C60A1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7788D-69D9-488A-9C55-AF71C9E5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4D84D-A3A7-4C76-9B9B-F1678E19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3CC4-4E7C-419B-87F8-36C6503F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343BF-F0B4-4CC5-B651-E1690482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96B83-84A5-43D6-A7BA-36A8D992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13BF-2194-4B11-9C2D-EDB1244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6CE-EAA3-4C21-85F4-3D4DF16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C7A44-02B6-4BBA-950C-B1AE31CD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A96B4-741B-4C6E-BEB4-7A43D0D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84712-FC63-47F8-8EC1-E5E03FDC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EA68F-0118-4952-8111-7886C1E3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F4F4-FBC3-41CF-A331-89AEB580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553-7F6C-41FC-B38E-F16E322E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92F4-2FB3-4FE4-B763-8E64893164A5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B5AE-62AB-4FAA-8D84-E4AAC0D779AB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7598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7598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626d8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626d8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26d8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9736-E22B-4FF2-8977-EB2D6FC8C265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6788-B611-4913-9B16-1951B901BA02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626d8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1DFC-12E4-4930-9732-44997A847D13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D454-35D7-4BA3-A811-99C7324401EE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7124-ACD3-4415-85AC-BE6A0B0ACCC8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etcode.com/wxpython/introduc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s.berkeley.edu/~flab/languages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ython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1517760"/>
            <a:ext cx="7785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nam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2f2f2"/>
                </a:solidFill>
                <a:latin typeface="Corbel"/>
              </a:rPr>
              <a:t>Examples of incorrect variable names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76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trombones = "big parade“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starts with a number 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more</a:t>
            </a: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$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= 1000000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has the dollar sign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class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= "Computer Science 203“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used ‘class’ is a reserved word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Data Typ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umber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tegers (0, 12, 17, -20,…),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loats (0.0, 3.14, 6.02e23,…..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perator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+  -  *  /  %  (modulus or remainder)  ** (exponentiation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ring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ything in double quotes”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Data Typ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ype(“Hello World”) : &lt;type ’str’&gt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ype(10) : &lt;type ’int’&gt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ssu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 1,000,000  :  1 0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nam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09480" y="152388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d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and  - assert - break - class - continue - d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del  - elif  - else - except - exec - fin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for - from - global - if - import -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is - lambda - not - or - pass - 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raise – return – try - while  -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Some practic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e  a variable call it var1 and store the number 9 in i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e  a second variable call it var2 and store the number 1 in i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t the sum of var1 and var2 and store the result in var3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witch the values of var1 and var2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ery Importa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ython is case sensitiv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le nam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 (X is different from 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lename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variableN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nction nam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f stateme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{conditions to be met}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do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and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and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but this happens regardles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because it isn't indented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y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y == 1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“y still equals 1, I was just checking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omparison operato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=   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=    grater than or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=    less than or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       less th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      grater th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!=      differ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f stateme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a = 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f a &gt; 5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This shouldn’t happen.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else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‘This should happen.’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3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z = 4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f z &gt; 70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Something is very wrong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elif z &lt; 7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This is normal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– for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for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item </a:t>
            </a: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in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container</a:t>
            </a: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: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# action to repeat for each item in the container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else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action to take once we have finished the loop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sum = 0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for x in [1, 2, 3, 4]: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execfile(“forexample01”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70" name="Picture 4" descr="African-Rock-Python-0004"/>
          <p:cNvPicPr/>
          <p:nvPr/>
        </p:nvPicPr>
        <p:blipFill>
          <a:blip r:embed="rId1"/>
          <a:stretch/>
        </p:blipFill>
        <p:spPr>
          <a:xfrm>
            <a:off x="1600200" y="152280"/>
            <a:ext cx="5715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– for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wList = [45, 'eat me', 90210, ‘The day has come’, -67]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r value in newList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nt valu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execfile(“forexample02”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- while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while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{condition that the loop continues}</a:t>
            </a: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{what to do in the loop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{have it indented, usually four spaces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{the code here is not looped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{because it isn't indented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x = 10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while x != 0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print x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x = x - 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wow, we have counted x down, and now it equals”, x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"And now the loop has ended."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- while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“We will show the even numbers up to 20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ile n &lt;= 20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n % 2 == 0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 = n +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"there, done.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execfile(“whileexample02”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mportant not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09120" y="1784520"/>
            <a:ext cx="8077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 condition in an if statement or a while loop can be a simple one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expression 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comparison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expression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age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&gt;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100):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 if ( x%2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==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0):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while( (i + j)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&lt;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(k * l - m)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Or  a mix of several simple conditions: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…….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…………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..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operator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age&gt;100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AND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salary&gt;100000):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(color == “red”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OR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color==“pink”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goodstanding = true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NOT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goodstanding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o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040" y="1294920"/>
            <a:ext cx="38862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mparison Operato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!=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4876920" y="1295280"/>
            <a:ext cx="36576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gical Op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c"/>
                </a:solidFill>
                <a:latin typeface="Consolas"/>
              </a:rPr>
              <a:t>The difference between </a:t>
            </a:r>
            <a:br>
              <a:rPr sz="3600"/>
            </a:br>
            <a:r>
              <a:rPr b="0" lang="en-US" sz="3600" spc="-1" strike="noStrike">
                <a:solidFill>
                  <a:srgbClr val="ffff6c"/>
                </a:solidFill>
                <a:latin typeface="Consolas"/>
              </a:rPr>
              <a:t>for &amp; while</a:t>
            </a:r>
            <a:endParaRPr b="0" lang="en-US" sz="36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7845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while x &lt;= 4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x = x +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print su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0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r x in [1, 2, 3, 4]: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print su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784520"/>
            <a:ext cx="7772400" cy="24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Built-in functions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“something”, somethingelse , …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nipulating picture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et a picture from the internet  - Google : </a:t>
            </a:r>
            <a:r>
              <a:rPr b="0" lang="en-US" sz="2000" spc="-1" strike="noStrike">
                <a:solidFill>
                  <a:srgbClr val="0070c0"/>
                </a:solidFill>
                <a:latin typeface="Corbel"/>
              </a:rPr>
              <a:t>free pictures rock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makePicture, show, getColor, SetColor,…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762120" y="4572000"/>
            <a:ext cx="8229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cture = </a:t>
            </a:r>
            <a:r>
              <a:rPr b="0" lang="en-US" sz="1600" spc="-1" strike="noStrike">
                <a:solidFill>
                  <a:srgbClr val="ffe636"/>
                </a:solidFill>
                <a:latin typeface="Arial"/>
              </a:rPr>
              <a:t>makePic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“C:\\Documents and Settings\\aguerbas\\Desktop\\python.jpg"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636"/>
                </a:solidFill>
                <a:latin typeface="Arial"/>
              </a:rPr>
              <a:t>sh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picture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er Defined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# function with no parameters and no returned value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hello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():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print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"Hello World!"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hen you call this function using the interactive console like this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hello()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It will print Helllo World!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# Simple Argument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withParameters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txt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):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print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txt+txt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    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hen you call this function using the interactive console like this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ithParameters(”Hello”)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This function will print the Hello 2 times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er Defined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function with parameters and with returned value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 product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umber1,number2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sult = number1 * number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                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return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resul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value returned by a function can be stored in a variable like thi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ariableName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product(2,3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variableNam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previous instructions can be in the same file where the function product is defined or can be typed in the interactive (black) conso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ing Built-in function</a:t>
            </a:r>
            <a:br>
              <a:rPr sz="4000"/>
            </a:b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math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9810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 using built-in math fun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mport  ma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Logarithm(x)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f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&lt;= 0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"Positive numbers only, please.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sult = math.log(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"The log of x is", resul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Python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is the name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of a programming language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as well</a:t>
            </a:r>
            <a:endParaRPr b="0" lang="en-US" sz="5400" spc="-1" strike="noStrike">
              <a:solidFill>
                <a:srgbClr val="ffff6c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ing Built-in function</a:t>
            </a:r>
            <a:br>
              <a:rPr sz="4000"/>
            </a:b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math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 using built-in math fun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ing the return keywor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mport ma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Logarithm(x)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x &lt;= 0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"Positive numbers only, please.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math.log(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String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message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“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Good Morning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”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The variable message has type String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following operations are illegal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message 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 1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message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“Hello”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so the following operations are illegal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Hello”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123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15”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String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following operations are legal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Fruit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“banana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bakedGood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“nut bread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fruit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bakedGoo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peti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print  “fun”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3     </a:t>
            </a:r>
            <a:r>
              <a:rPr b="0" lang="en-US" sz="2400" spc="-1" strike="noStrike">
                <a:solidFill>
                  <a:srgbClr val="f2f2f2"/>
                </a:solidFill>
                <a:latin typeface="Corbel"/>
              </a:rPr>
              <a:t>it  gives you:  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“funfunfun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numbe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    is   3   and  not 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    is   3    and  not 27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-1        is   5    and not 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/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          is   -1   and not  1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integer division: use decimals to get real numbers 2.0/3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orbel"/>
              </a:rPr>
              <a:t>To avoid ambiguity (confusion) use parenthesis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)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2f2f2"/>
                </a:solidFill>
                <a:latin typeface="Corbel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)-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Things to remember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ython is case sensiti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dentation is very important in J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Steps to run a Jython (JES)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rite your code (instruction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ad the code (you will be asked to save i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un the code either by using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execfile(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cation &amp; name of the file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”)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comman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r by calling directly a function if you have on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structions are executed sequentiall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iece of code that gives you the number of days you have li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clude your name and a description of what the code does at the beginning of your python progra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rogram that converts temperature in Celsius to Fahrenheit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)Take the temperature in Celsius and multiply 1.8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)Add 32 degrees. The result is degrees Fahrenhei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rogram that takes four different grades as input and gives you a letter grad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1: 90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2: 95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3 : 93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4: 91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output should be: 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c"/>
                </a:solidFill>
                <a:latin typeface="Consolas"/>
              </a:rPr>
              <a:t>Programming Languages Usage</a:t>
            </a:r>
            <a:endParaRPr b="0" lang="en-US" sz="28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1223640" y="5562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numbers are from May 200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19320" y="1143000"/>
          <a:ext cx="6476760" cy="4159080"/>
        </p:xfrm>
        <a:graphic>
          <a:graphicData uri="http://schemas.openxmlformats.org/drawingml/2006/table">
            <a:tbl>
              <a:tblPr/>
              <a:tblGrid>
                <a:gridCol w="2158920"/>
                <a:gridCol w="2158920"/>
                <a:gridCol w="215892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a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5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isual Ba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r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yth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#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vaScrip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u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.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Text Box 79"/>
          <p:cNvSpPr/>
          <p:nvPr/>
        </p:nvSpPr>
        <p:spPr>
          <a:xfrm>
            <a:off x="5080320" y="6019920"/>
            <a:ext cx="29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zetcode.com/wxpython/int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c"/>
                </a:solidFill>
                <a:latin typeface="Consolas"/>
              </a:rPr>
              <a:t>Programming Languages Usage</a:t>
            </a:r>
            <a:endParaRPr b="0" lang="en-US" sz="28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77" name="Picture 4" descr="languages"/>
          <p:cNvPicPr/>
          <p:nvPr/>
        </p:nvPicPr>
        <p:blipFill>
          <a:blip r:embed="rId1"/>
          <a:stretch/>
        </p:blipFill>
        <p:spPr>
          <a:xfrm>
            <a:off x="1173240" y="1784520"/>
            <a:ext cx="7254720" cy="4572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4724280" y="632448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://www.cs.berkeley.edu/~flab/languag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Python</a:t>
            </a:r>
            <a:endParaRPr b="0" lang="en-US" sz="54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6765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en Source (Fre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rt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mple Synta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ll Document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2611c"/>
                </a:solidFill>
                <a:uFillTx/>
                <a:latin typeface="Corbel"/>
                <a:hlinkClick r:id="rId1"/>
              </a:rPr>
              <a:t>www.python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Programming with Python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at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Constants and Variab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structions (Cod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Assignment (=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If .. Then state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Loo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…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J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84" name="Picture 5" descr="Jes"/>
          <p:cNvPicPr/>
          <p:nvPr/>
        </p:nvPicPr>
        <p:blipFill>
          <a:blip r:embed="rId1"/>
          <a:stretch/>
        </p:blipFill>
        <p:spPr>
          <a:xfrm>
            <a:off x="1600200" y="990720"/>
            <a:ext cx="60580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Variables are names for data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Examples of good variable names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age = 99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vince = “Alberta”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x = 15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y = 32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gasprice = 0.95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i = 3.14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28:39Z</dcterms:created>
  <dc:creator>Information Technologies</dc:creator>
  <dc:description/>
  <dc:language>en-US</dc:language>
  <cp:lastModifiedBy>aguerbas</cp:lastModifiedBy>
  <dcterms:modified xsi:type="dcterms:W3CDTF">2009-03-20T01:33:42Z</dcterms:modified>
  <cp:revision>108</cp:revision>
  <dc:subject/>
  <dc:title>Slide 1</dc:title>
</cp:coreProperties>
</file>